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8.jpeg" ContentType="image/jpeg"/>
  <Override PartName="/ppt/media/%E6%BB%B4%E6%B0%B4%E5%A3%B0.wav" ContentType="audio/x-wav"/>
  <Override PartName="/ppt/media/WRONG.WAV" ContentType="audio/x-wav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04D6-089F-45D1-84C0-8D53CC33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1E86-A42A-489F-A586-4B629172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6844F-5694-4849-BA10-8D36A281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E28CA-C8F4-49E0-BE72-315ABD99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F88B4-D978-4D2E-B59B-73E264C9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CC15E-602C-4B5C-B079-736CFAFF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086EB-F610-483F-81D5-CF4F0020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7C137-5215-4E6B-B628-E61B6643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DB3E7-593C-4346-9AA5-671DEB1A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0F30B-E729-42FB-8B52-B7915677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66B49-5173-4073-9D79-F02B17FA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790AF-DF46-4523-92D2-D7132F1E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1103-917C-43BC-B59E-F6094405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1558D-A626-4913-B6CF-3E0CE91F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9EF2E-D5C0-4B76-8BC6-BA42B162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A6122-23DA-435E-B644-5257A1B1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25F5E-54E7-40EA-803D-362E57B5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6781C-707A-48AA-B51C-41078F95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7D950-0185-4401-A194-B486329E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9E875-1458-4D37-B11E-5CEBA804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A90CE-DEAF-418D-A0CD-4D3F40FE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1188C-937A-4BD5-A7F9-D1E37C6E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401A6-0A65-4847-9707-423CC688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057F-B806-497D-A22B-2CABA796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B5392-D1B9-43F6-809C-878E6958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F87E9-6106-4402-86BD-314AD207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2A7C7-3260-42F6-8488-951B91A9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DC72D-CBD1-4F68-A47D-C137CF17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3D13C-C06E-4658-B3C6-9971AA50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4745A-BC46-48EF-8812-82DD9D01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45222-F55F-4D62-810C-500B06AF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B35BD-1C01-4E48-B75E-4AC9AD76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46F2C-65AF-40C8-9D50-7B57EF11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CD462-ED7F-4AA1-9133-5C690EF1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E749-260E-4979-9B38-574F2623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9638D-D522-49A8-BE0B-1204D71E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767C1-CC67-41F8-B3F0-217B44F5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6D46A-B602-4FB6-818B-6D669D20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FE6F6-60A8-40DA-A43B-1BBBC6D3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91EDB-5C74-484A-94A5-585E94EF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2BE62-2582-4B31-89A5-F4BF1590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A4C48-1BF8-47C9-B4EC-A283860E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10356-DC35-40C0-9C0A-E9AEC8F2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BF997-375C-4127-8D69-8914969B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34303-34C5-466E-967C-31CB4C13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1A20-A11E-4D24-9E39-54B21B0C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17C76-26C1-448B-9A65-8B4C9C00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DDE06-34AE-440B-B4F5-7B350D0C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06175-34A9-4B37-B4DA-0DAECE8B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764D4-9AFB-4BD3-8A3F-1182ADF3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C96B0-853C-4AED-8676-6BB2DD8A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FA73-8D6D-4DA8-963E-C010E6F2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52B9-8CD6-4F74-8BDF-1897E095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B728-BF36-49D6-8CF6-66B5AC5C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B908-3646-4617-9CA1-BCDAF2A6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D61D-7C95-4064-8280-093A2FDD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1B5B-6779-445A-9CCA-EDA15F35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94D8-B99A-4ABA-9E39-B408BEC1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35CC-5445-4033-9F3D-735B3692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805B-F1CD-4ABC-8178-C76EE98A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979E-F99C-4464-9B34-84B32579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A24E-D8C1-4F7A-BDA6-AC625F35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6269E-9D6A-4633-9234-DF91E95E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33F1F-FA48-4355-A532-BCFDF1EB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0CD17-4337-4D01-B7E4-829D2C72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A5137-0AA0-4D8F-A6F6-16C3A42C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31797-237C-4803-B329-D18373D5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D63D-3FA7-4619-9DBC-CEAC4A80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C1440-DC6B-480D-A32C-CED6A951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26384-E1A2-48F9-AAB5-F57D59C9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E349C-769B-4FAD-B466-4BBA6697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33385-64E1-419A-BDD5-9DDC45B1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E0B53-9ADA-425F-A836-3C30C47B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D93D1-3771-4AF5-B323-3FC40F66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0971F-0CBB-4F6F-A958-2868022C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982C8-1925-425E-B753-FA670C44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785ED-3380-42A5-AFA8-5D834913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83A9E-CD83-4955-ACAC-47D120B8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53E5-BB47-4C28-905C-4B065764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C0B78-5C95-4766-8743-F42A6A46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97990-109F-49D1-ABB8-7777F593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A3A59-0377-4FA3-88E5-487FBA75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75B22-4DDC-4506-8F29-FCD2AE84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2B71A-2DFA-4F23-B85F-51E2BBD4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86877-A9FE-498E-BDAF-7639DB87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BC265-3EE3-406F-B886-78FF8743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BFBD7-13EA-4AF8-81A5-AE9F35F1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8F2F2-BA1A-4100-8D3E-43C212A1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ACE3E-9CA6-47DC-8E26-9978E0F4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925-516C-47D3-9158-652B3F72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364B6-AD2C-4889-9795-46EA1630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6DDCB-EF10-471C-9BD2-BE60D19D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C28AF-6C25-47C2-82FE-B9CFF1E0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41DC5-EAF0-4034-B1AD-5D4001B0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2C373-E873-4418-B633-2AF05C7A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4124C-91D0-473A-A33B-54894EDA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55780-BC30-4714-B329-7ED22B5E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D535A-56E6-40C2-986B-411EFCF5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33A23-8E1A-4B15-9604-CB319235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A06D6-CE61-43E0-9525-1960054A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FAB9-6349-44DB-BADF-BD46800A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5F20C-9BB8-42C3-B4F2-BD66729E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89925-C505-4DFD-8E99-B5F5F7B3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B4FFA-94C1-4A29-B5CE-BFD4DFCE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D61F3-98CC-4B3A-9385-C50AC28E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25B94-83CF-401E-BA13-A3F3F4D0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AAC51-ADFA-4586-824D-4C941020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A769C-DB61-4BD3-982B-64AC161C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3F2C3-2085-42C4-97E2-BE47FE05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81C41-E473-4B32-9439-F879C918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B13B9-0E48-4E27-B384-C16B8C23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90E0-1F59-4ABD-ABBF-9CA0F9CB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185B5-E685-43A0-BF79-9430D24B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5E9A3-72E4-4A92-BE73-BDD23C46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C79B2-861F-42A0-874F-AEA729D5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B1B0A-77B4-465F-BE66-031FECEC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4FB7F-4A82-49CA-B1E0-5EE6BD13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9501F-DE9E-4958-A5A5-F793C02D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BA26C-4DAA-4DDE-AFF4-FA54113A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38E6B-FFEF-4A85-80AF-FBD3C322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A8316-A56E-4364-988B-0685F142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9421E-09BC-4A46-ADF0-0C990E7D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FC22-70BF-4A09-A60C-210E6669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9B4BB-B211-430E-8BAC-92840F67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66073-3F34-479F-90C1-3B30E2FE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7EC60-A52F-47E6-8272-46EDF100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95157-0A9C-437D-8112-C1CEDB53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B5B57-983D-4B71-961F-1E310D05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F1FAA-04BB-4B28-9703-69D35CC0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86BBE-8FAC-4A4A-901F-E554D202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A4162-EF56-460B-B573-EB859120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426C9-295A-4847-89FF-0251707A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EC24E-B6B9-4734-9432-59781750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F9D1-6B67-4B68-A376-01455E98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E8959-33E5-4CE1-A34D-10B2206A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4493B-D1D6-4EB1-8F6E-F819552D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CEA3F-9FE9-4A9E-A21C-85A28AA4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D4CED-94CB-4C41-8382-F9BA99CA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27377-DDB5-4AE8-8934-BA2D304A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E7150-3673-4847-89B0-CBE5403E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83601-F085-42EF-9572-F3118277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303EB-8562-4DF4-BBD3-E245C693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D60C5-2162-4657-874E-76F0F019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BEAA0-5653-460F-A19B-8BF84334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E22E-8BC7-4781-B8EE-629A81E4FE4F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4258-6FCA-465C-89BA-4EA8D135661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A3AD-9565-4A1C-A22E-112A0481575D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3216-871C-4162-A5FD-D97D0834596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E937-3B1F-4FC1-AB15-4F8EEF5CC46B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19BC-5ACD-4AED-8AC5-9953E2656AB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B6B2-0360-43CC-A73B-974655480604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6E47-01C0-4DDF-A728-DD899045C90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62EC-9287-409C-ACC4-B85F884C06AD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0208-A7AF-4624-9DD7-1675C0C1198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B7AB-DDE7-49F1-AC35-F0A3A011C796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8F92-4AF6-4930-A8AA-996F061DB3D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9671-298D-4C33-8993-2FA53CFEB471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433E-ECB2-44DC-9BAE-740E55A06DE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2CE4-4C08-4C28-B98E-BFE7A85CF4E5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AAAF-8D57-4DF6-AA13-704CD41E62E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352B-6E17-455D-94B2-7366B0A78B0D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EC19-30F2-4686-BF72-E509B74692A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DADA-B519-4F5D-BECE-AE6293EB3EEC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AC17-9EEC-4A94-8A47-8EF058E22CA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28FD-2CA0-425F-B9EE-C75D95E83A3A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5ED7-904C-46E5-8FC7-491121EBAA9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7868-29A1-453A-B504-D2CE3D255E4D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6AEA-113D-4232-B315-E88504353E8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&#28404;&#27700;&#22768;.wav"/><Relationship Id="rId3" Type="http://schemas.openxmlformats.org/officeDocument/2006/relationships/audio" Target="../media/WRONG.WAV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牛   和   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p_large_DhnW_7f08000068fc2d0b"/>
          <p:cNvPicPr/>
          <p:nvPr/>
        </p:nvPicPr>
        <p:blipFill>
          <a:blip r:embed="rId1"/>
          <a:stretch/>
        </p:blipFill>
        <p:spPr>
          <a:xfrm>
            <a:off x="-73080" y="0"/>
            <a:ext cx="9680760" cy="69343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zh-CN" sz="3200" spc="-1" strike="noStrike">
                <a:solidFill>
                  <a:srgbClr val="990033"/>
                </a:solidFill>
                <a:latin typeface="Arial"/>
              </a:rPr>
              <a:t>飞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地走了过来，</a:t>
            </a:r>
            <a:r>
              <a:rPr b="0" lang="zh-CN" sz="3200" spc="-1" strike="noStrike">
                <a:solidFill>
                  <a:srgbClr val="990033"/>
                </a:solidFill>
                <a:latin typeface="Arial"/>
              </a:rPr>
              <a:t>一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握住了鹅的长脖子。鹅用脚爪划他，用嘴啄他，可是金奎叔的力气那么大，他</a:t>
            </a:r>
            <a:r>
              <a:rPr b="0" lang="zh-CN" sz="3200" spc="-1" strike="noStrike">
                <a:solidFill>
                  <a:srgbClr val="990033"/>
                </a:solidFill>
                <a:latin typeface="Arial"/>
              </a:rPr>
              <a:t>轻轻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鹅提了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e2_004"/>
          <p:cNvPicPr/>
          <p:nvPr/>
        </p:nvPicPr>
        <p:blipFill>
          <a:blip r:embed="rId2"/>
          <a:stretch/>
        </p:blipFill>
        <p:spPr>
          <a:xfrm>
            <a:off x="76320" y="3352680"/>
            <a:ext cx="3352680" cy="281952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5"/>
          <p:cNvSpPr/>
          <p:nvPr/>
        </p:nvSpPr>
        <p:spPr>
          <a:xfrm>
            <a:off x="3657600" y="274320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老雄鹅害怕了，好不容易挣脱束缚，张开翅膀，连飞带跳“</a:t>
            </a:r>
            <a:r>
              <a:rPr b="0" lang="zh-CN" sz="3200" spc="-1" strike="noStrike">
                <a:solidFill>
                  <a:srgbClr val="990033"/>
                </a:solidFill>
                <a:latin typeface="Arial"/>
                <a:ea typeface="宋体"/>
              </a:rPr>
              <a:t>啪啪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”地落到了池中。这一下，别的鹅也害怕了，纷纷张开翅膀，跳进池里，逃命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4952880" y="5562720"/>
            <a:ext cx="41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Arial"/>
                <a:ea typeface="宋体"/>
              </a:rPr>
              <a:t>（狼狈而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3886200" y="3809880"/>
            <a:ext cx="1306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p_large_m1N9_7e0700002d682d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1066320" y="1447920"/>
            <a:ext cx="76215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奎叔说：“让它这样看好了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，它要是凭这点来欺负人，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咱们可不答应，就得掐住它的脖子，把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扔到池里去。记着，下次可别再怕它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2209680" y="4419720"/>
            <a:ext cx="63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对于这句话，你有什么看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_large_14Ea_267900008b9b2d10"/>
          <p:cNvPicPr/>
          <p:nvPr/>
        </p:nvPicPr>
        <p:blipFill>
          <a:blip r:embed="rId1"/>
          <a:srcRect l="0" t="0" r="0" b="7565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144080" y="1142640"/>
            <a:ext cx="716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虽然把我们看得比它小，可我们实在比它强呀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对待任何事物，都要尊重客观事实，从实际出发；同时，换个角度看问题，得到的结果就大不相同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矩形 8"/>
          <p:cNvSpPr/>
          <p:nvPr/>
        </p:nvSpPr>
        <p:spPr>
          <a:xfrm>
            <a:off x="4800600" y="30099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990033"/>
                </a:solidFill>
                <a:latin typeface="Arial"/>
              </a:rPr>
              <a:t> 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990033"/>
                </a:solidFill>
                <a:latin typeface="Arial"/>
              </a:rPr>
              <a:t> 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990033"/>
                </a:solidFill>
                <a:latin typeface="Arial"/>
              </a:rPr>
              <a:t>  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200577192343476"/>
          <p:cNvPicPr/>
          <p:nvPr/>
        </p:nvPicPr>
        <p:blipFill>
          <a:blip r:embed="rId1"/>
          <a:stretch/>
        </p:blipFill>
        <p:spPr>
          <a:xfrm>
            <a:off x="2590920" y="763560"/>
            <a:ext cx="5715000" cy="472284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5"/>
          <p:cNvSpPr/>
          <p:nvPr/>
        </p:nvSpPr>
        <p:spPr>
          <a:xfrm>
            <a:off x="533520" y="2438280"/>
            <a:ext cx="1654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33"/>
                </a:solidFill>
                <a:latin typeface="Arial"/>
                <a:ea typeface="宋体"/>
              </a:rPr>
              <a:t>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4" descr="white_002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5"/>
          <p:cNvSpPr/>
          <p:nvPr/>
        </p:nvSpPr>
        <p:spPr>
          <a:xfrm>
            <a:off x="520056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5066640" y="6206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d9d8ec"/>
                </a:solidFill>
                <a:latin typeface="Times New Roman"/>
                <a:ea typeface="宋体"/>
              </a:rPr>
              <a:t>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7" descr="鹅"/>
          <p:cNvPicPr/>
          <p:nvPr/>
        </p:nvPicPr>
        <p:blipFill>
          <a:blip r:embed="rId2"/>
          <a:stretch/>
        </p:blipFill>
        <p:spPr>
          <a:xfrm>
            <a:off x="533520" y="1676520"/>
            <a:ext cx="38242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p_large_AFqy_7e0700002d532d12"/>
          <p:cNvPicPr/>
          <p:nvPr/>
        </p:nvPicPr>
        <p:blipFill>
          <a:blip r:embed="rId1"/>
          <a:stretch/>
        </p:blipFill>
        <p:spPr>
          <a:xfrm>
            <a:off x="0" y="0"/>
            <a:ext cx="9769320" cy="8001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743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牛  和  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牛仔"/>
          <p:cNvPicPr/>
          <p:nvPr/>
        </p:nvPicPr>
        <p:blipFill>
          <a:blip r:embed="rId2"/>
          <a:stretch/>
        </p:blipFill>
        <p:spPr>
          <a:xfrm>
            <a:off x="79200" y="1679400"/>
            <a:ext cx="5330880" cy="48736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鹅"/>
          <p:cNvPicPr/>
          <p:nvPr/>
        </p:nvPicPr>
        <p:blipFill>
          <a:blip r:embed="rId3"/>
          <a:stretch/>
        </p:blipFill>
        <p:spPr>
          <a:xfrm>
            <a:off x="6172200" y="3657600"/>
            <a:ext cx="251460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p_large_m1N9_7e0700002d682d12"/>
          <p:cNvPicPr/>
          <p:nvPr/>
        </p:nvPicPr>
        <p:blipFill>
          <a:blip r:embed="rId1"/>
          <a:stretch/>
        </p:blipFill>
        <p:spPr>
          <a:xfrm>
            <a:off x="0" y="0"/>
            <a:ext cx="8939160" cy="670572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1676160" y="1523520"/>
            <a:ext cx="70117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”原本十分害怕鹅，看见鹅就躲得远远的，后来有一次在金奎叔的帮助下，再也不怕鹅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p_large_DhnW_7f08000068fc2d0b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3"/>
          <p:cNvSpPr/>
          <p:nvPr/>
        </p:nvSpPr>
        <p:spPr>
          <a:xfrm>
            <a:off x="685800" y="8380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宋体"/>
              </a:rPr>
              <a:t>对牛：欺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762120" y="3276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宋体"/>
              </a:rPr>
              <a:t>对鹅：害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1295280" y="182880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宋体"/>
              </a:rPr>
              <a:t>拍</a:t>
            </a:r>
            <a:r>
              <a:rPr b="1" lang="zh-CN" sz="3200" spc="-1" strike="noStrike">
                <a:solidFill>
                  <a:srgbClr val="d9d8ec"/>
                </a:solidFill>
                <a:latin typeface="Times New Roman"/>
                <a:ea typeface="宋体"/>
              </a:rPr>
              <a:t>它的背、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宋体"/>
              </a:rPr>
              <a:t>摸</a:t>
            </a:r>
            <a:r>
              <a:rPr b="1" lang="zh-CN" sz="3200" spc="-1" strike="noStrike">
                <a:solidFill>
                  <a:srgbClr val="d9d8ec"/>
                </a:solidFill>
                <a:latin typeface="Times New Roman"/>
                <a:ea typeface="宋体"/>
              </a:rPr>
              <a:t>它的肚子、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宋体"/>
              </a:rPr>
              <a:t>触</a:t>
            </a:r>
            <a:r>
              <a:rPr b="1" lang="zh-CN" sz="3200" spc="-1" strike="noStrike">
                <a:solidFill>
                  <a:srgbClr val="d9d8ec"/>
                </a:solidFill>
                <a:latin typeface="Times New Roman"/>
                <a:ea typeface="宋体"/>
              </a:rPr>
              <a:t>它的屁股、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宋体"/>
              </a:rPr>
              <a:t>刮</a:t>
            </a:r>
            <a:r>
              <a:rPr b="1" lang="zh-CN" sz="3200" spc="-1" strike="noStrike">
                <a:solidFill>
                  <a:srgbClr val="d9d8ec"/>
                </a:solidFill>
                <a:latin typeface="Times New Roman"/>
                <a:ea typeface="宋体"/>
              </a:rPr>
              <a:t>它的皮、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宋体"/>
              </a:rPr>
              <a:t>扳</a:t>
            </a:r>
            <a:r>
              <a:rPr b="1" lang="zh-CN" sz="3200" spc="-1" strike="noStrike">
                <a:solidFill>
                  <a:srgbClr val="d9d8ec"/>
                </a:solidFill>
                <a:latin typeface="Times New Roman"/>
                <a:ea typeface="宋体"/>
              </a:rPr>
              <a:t>牛角、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宋体"/>
              </a:rPr>
              <a:t>骑</a:t>
            </a:r>
            <a:r>
              <a:rPr b="1" lang="zh-CN" sz="3200" spc="-1" strike="noStrike">
                <a:solidFill>
                  <a:srgbClr val="d9d8ec"/>
                </a:solidFill>
                <a:latin typeface="Times New Roman"/>
                <a:ea typeface="宋体"/>
              </a:rPr>
              <a:t>牛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1371600" y="4267080"/>
            <a:ext cx="69343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总是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宋体"/>
              </a:rPr>
              <a:t>远远地站在安全的地方</a:t>
            </a: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才敢看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就得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宋体"/>
              </a:rPr>
              <a:t>绕个大圈子</a:t>
            </a: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宋体"/>
              </a:rPr>
              <a:t>才敢走过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BB%B4%E6%B0%B4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R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1143000" y="17524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见了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马上就不响了，贴着墙壁悄悄地走过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心里很害怕，怕它们看见了会追过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鹅"/>
          <p:cNvPicPr/>
          <p:nvPr/>
        </p:nvPicPr>
        <p:blipFill>
          <a:blip r:embed="rId1"/>
          <a:stretch/>
        </p:blipFill>
        <p:spPr>
          <a:xfrm>
            <a:off x="453960" y="3809880"/>
            <a:ext cx="2774880" cy="281952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72388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鹅听见了，就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起头来，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眼睛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看，竟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岸上，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一摇一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地、神气地朝我们走过来；还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伸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出脖子，“吭吭”地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，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扑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大翅膀，好像眼里根本没有我们似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4267080" y="3657600"/>
            <a:ext cx="481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（目中无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3" descr="__scale__1_341210032"/>
          <p:cNvPicPr/>
          <p:nvPr/>
        </p:nvPicPr>
        <p:blipFill>
          <a:blip r:embed="rId1"/>
          <a:stretch/>
        </p:blipFill>
        <p:spPr>
          <a:xfrm>
            <a:off x="534960" y="306360"/>
            <a:ext cx="1752480" cy="137016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忙乱中，我的书包掉了，鞋子也弄脱了。我想它一定要把我咬死了，就又哭又叫：“鹅要吃我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鹅要咬死我了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04:21:14Z</dcterms:created>
  <dc:creator/>
  <dc:description/>
  <dc:language>en-US</dc:language>
  <cp:lastModifiedBy>万润仪器贸易公司</cp:lastModifiedBy>
  <dcterms:modified xsi:type="dcterms:W3CDTF">2020-08-24T03:37:10Z</dcterms:modified>
  <cp:revision>12</cp:revision>
  <dc:subject/>
  <dc:title>牛   和   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